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.png" ContentType="image/png"/>
  <Override PartName="/ppt/media/image2.jpeg" ContentType="image/jpeg"/>
  <Override PartName="/ppt/media/image14.wmf" ContentType="image/x-wmf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6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96920" y="3969000"/>
            <a:ext cx="879624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969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41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70880" y="142848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5200" y="142848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96920" y="396900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70880" y="396900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5200" y="396900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6920" y="255600"/>
            <a:ext cx="87962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969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041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6920" y="3969000"/>
            <a:ext cx="879624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96920" y="3969000"/>
            <a:ext cx="879624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69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041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0880" y="142848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45200" y="142848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96920" y="396900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0880" y="396900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45200" y="396900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96920" y="255600"/>
            <a:ext cx="87962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969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41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96920" y="3969000"/>
            <a:ext cx="879624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36600">
              <a:spcBef>
                <a:spcPts val="1500"/>
              </a:spcBef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spcBef>
                <a:spcPts val="15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25720">
              <a:spcBef>
                <a:spcPts val="1500"/>
              </a:spcBef>
              <a:buClr>
                <a:srgbClr val="ff99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8627400" y="6311880"/>
            <a:ext cx="73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882C-DA09-479F-9E35-37A18F1EA7B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7688160" y="6599160"/>
            <a:ext cx="145584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Line 4"/>
          <p:cNvSpPr/>
          <p:nvPr/>
        </p:nvSpPr>
        <p:spPr>
          <a:xfrm>
            <a:off x="2092320" y="2360520"/>
            <a:ext cx="0" cy="389592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36600">
              <a:spcBef>
                <a:spcPts val="1500"/>
              </a:spcBef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spcBef>
                <a:spcPts val="15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25720">
              <a:spcBef>
                <a:spcPts val="1500"/>
              </a:spcBef>
              <a:buClr>
                <a:srgbClr val="ff99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yroscop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rc.nasa.gov/WWW/K-12/airplane/roll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70160" y="2590920"/>
            <a:ext cx="6873840" cy="12891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Bookman Old Style"/>
              </a:rPr>
              <a:t>Aircraft Auto Pilot Roll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Bookman Old Style"/>
              </a:rPr>
              <a:t>Control System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Up/Down(Pitch) motion of aircraft by Elevator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0" name="Picture 4" descr="Aptch"/>
          <p:cNvPicPr/>
          <p:nvPr/>
        </p:nvPicPr>
        <p:blipFill>
          <a:blip r:embed="rId1"/>
          <a:stretch/>
        </p:blipFill>
        <p:spPr>
          <a:xfrm>
            <a:off x="1066680" y="1233360"/>
            <a:ext cx="7086600" cy="50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987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Block Diagram Of ROLL Angle control of AUTOPILO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4800600" y="6248520"/>
            <a:ext cx="9907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2590920" y="2362320"/>
            <a:ext cx="8380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1756440" y="2971800"/>
            <a:ext cx="15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3240" y="198108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1800" y="297180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8512200" y="281952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8077320" y="1981080"/>
            <a:ext cx="78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 ang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5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7"/>
          <p:cNvSpPr/>
          <p:nvPr/>
        </p:nvSpPr>
        <p:spPr>
          <a:xfrm>
            <a:off x="4952880" y="640080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8"/>
          <p:cNvSpPr/>
          <p:nvPr/>
        </p:nvSpPr>
        <p:spPr>
          <a:xfrm>
            <a:off x="2743200" y="2514600"/>
            <a:ext cx="8380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1908720" y="3124080"/>
            <a:ext cx="15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155520" y="213372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1"/>
          <p:cNvSpPr/>
          <p:nvPr/>
        </p:nvSpPr>
        <p:spPr>
          <a:xfrm>
            <a:off x="154080" y="312408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8664480" y="297180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3"/>
          <p:cNvSpPr/>
          <p:nvPr/>
        </p:nvSpPr>
        <p:spPr>
          <a:xfrm>
            <a:off x="8229600" y="2133720"/>
            <a:ext cx="7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 ang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4" descr=""/>
          <p:cNvPicPr/>
          <p:nvPr/>
        </p:nvPicPr>
        <p:blipFill>
          <a:blip r:embed="rId2"/>
          <a:stretch/>
        </p:blipFill>
        <p:spPr>
          <a:xfrm>
            <a:off x="152280" y="1981080"/>
            <a:ext cx="8991720" cy="48769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5"/>
          <p:cNvSpPr/>
          <p:nvPr/>
        </p:nvSpPr>
        <p:spPr>
          <a:xfrm>
            <a:off x="5029200" y="6436800"/>
            <a:ext cx="990720" cy="38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y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2971800" y="2590920"/>
            <a:ext cx="609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8"/>
          <p:cNvSpPr/>
          <p:nvPr/>
        </p:nvSpPr>
        <p:spPr>
          <a:xfrm>
            <a:off x="3200400" y="2590920"/>
            <a:ext cx="1652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9"/>
          <p:cNvSpPr/>
          <p:nvPr/>
        </p:nvSpPr>
        <p:spPr>
          <a:xfrm>
            <a:off x="3200400" y="2590920"/>
            <a:ext cx="1652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0"/>
          <p:cNvSpPr/>
          <p:nvPr/>
        </p:nvSpPr>
        <p:spPr>
          <a:xfrm>
            <a:off x="3124080" y="2590920"/>
            <a:ext cx="3348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1"/>
          <p:cNvSpPr/>
          <p:nvPr/>
        </p:nvSpPr>
        <p:spPr>
          <a:xfrm>
            <a:off x="0" y="2971800"/>
            <a:ext cx="1652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2"/>
          <p:cNvSpPr/>
          <p:nvPr/>
        </p:nvSpPr>
        <p:spPr>
          <a:xfrm>
            <a:off x="-17280" y="2835360"/>
            <a:ext cx="8042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Ød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3"/>
          <p:cNvSpPr/>
          <p:nvPr/>
        </p:nvSpPr>
        <p:spPr>
          <a:xfrm>
            <a:off x="-2520" y="1905120"/>
            <a:ext cx="176580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red Ba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2743200" y="3200400"/>
            <a:ext cx="1652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5"/>
          <p:cNvSpPr/>
          <p:nvPr/>
        </p:nvSpPr>
        <p:spPr>
          <a:xfrm>
            <a:off x="1839240" y="3063960"/>
            <a:ext cx="182232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r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6"/>
          <p:cNvSpPr/>
          <p:nvPr/>
        </p:nvSpPr>
        <p:spPr>
          <a:xfrm>
            <a:off x="8433360" y="2911320"/>
            <a:ext cx="6624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Ø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7"/>
          <p:cNvSpPr/>
          <p:nvPr/>
        </p:nvSpPr>
        <p:spPr>
          <a:xfrm>
            <a:off x="8381880" y="2133720"/>
            <a:ext cx="1652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9"/>
          <p:cNvSpPr/>
          <p:nvPr/>
        </p:nvSpPr>
        <p:spPr>
          <a:xfrm>
            <a:off x="7924680" y="2057400"/>
            <a:ext cx="121932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ircraft roll control provides the components &amp; functions includ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ler g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leron actuator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craft dynam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yr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ileron actuator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uator is the device that cause the process to provide the output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,the Aileron Actuator is the device which cause the movement of ailerons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01000" cy="54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4"/>
          <p:cNvGraphicFramePr/>
          <p:nvPr/>
        </p:nvGraphicFramePr>
        <p:xfrm>
          <a:off x="762120" y="609480"/>
          <a:ext cx="76197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6197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ROLL ANGLE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31560" indent="-33156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ilerons are used to bank the aircraft; to cause one wing tip to move up and the other wing tip to move down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the Ailerons always move in opposite to each other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ring the aileron on one wing raises the aileron on the other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ing with the lowered aileron rises because of its increase lift, and the wing with the raised aileron moves downward because of its decreased lif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gle which is generated by the movement of Ailerons is called as Roll Ang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l is defined as a rotation about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-axis, or longitudinal axis, of a flying vehic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549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"/>
              </a:rPr>
              <a:t>Gyro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YROS (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O SENSE WHAT AIRPLANE IS DO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onal Gyro(Heading Indicator) is used in an  aircraft to inform the pilot of his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head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yro works using a </a:t>
            </a:r>
            <a:r>
              <a:rPr b="1" lang="en-US" sz="2800" spc="-1" strike="noStrike" u="sng">
                <a:solidFill>
                  <a:srgbClr val="860086"/>
                </a:solidFill>
                <a:uFillTx/>
                <a:latin typeface="Arial"/>
                <a:hlinkClick r:id="rId1"/>
              </a:rPr>
              <a:t>gyroscop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ied to the aircraft horizontal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Out Line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ght Control Su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180px-C172_heading_indicator"/>
          <p:cNvPicPr/>
          <p:nvPr/>
        </p:nvPicPr>
        <p:blipFill>
          <a:blip r:embed="rId1"/>
          <a:stretch/>
        </p:blipFill>
        <p:spPr>
          <a:xfrm>
            <a:off x="1905120" y="838080"/>
            <a:ext cx="533376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AirCraft Dynamic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dynamics is the science of air and space vehicle orientation and control in three dimensions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Craft Dynamics uses for determination of the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position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aircraft at some arbitrary time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Simulink Diagram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Response of Roll angle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685800" y="1049400"/>
            <a:ext cx="7772400" cy="51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Advantage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 pilot system reduce the work strain of pilot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 pilot roll controlling reduces the fatigue  of controlling the aircraft in flight by the pilo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Application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used in the auto missiles to control the roll angle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can be used in almost every aircraft for auto pilot controlling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Picture3"/>
          <p:cNvPicPr/>
          <p:nvPr/>
        </p:nvPicPr>
        <p:blipFill>
          <a:blip r:embed="rId1"/>
          <a:stretch/>
        </p:blipFill>
        <p:spPr>
          <a:xfrm>
            <a:off x="1219320" y="914400"/>
            <a:ext cx="6629400" cy="48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pilot is a system of automatic controls  which holds the aircraft on any selected magnetic heading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is project our goal is to control the roll angle of the aircraft in the auto pilot system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Main flight Control System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craft is controlled by three main surfac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LER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D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V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ENABLE THE PILOT TO EXERCISE CONTROL OVER THE AIRCRAFT DURING ALLL PORTIONS OF FLIGH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AILERON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87" name="Picture 4" descr="250px-Wing"/>
          <p:cNvPicPr/>
          <p:nvPr/>
        </p:nvPicPr>
        <p:blipFill>
          <a:blip r:embed="rId1"/>
          <a:stretch/>
        </p:blipFill>
        <p:spPr>
          <a:xfrm>
            <a:off x="5635800" y="1523880"/>
            <a:ext cx="3508200" cy="44071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228600" y="1600200"/>
            <a:ext cx="5486400" cy="52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ilerons are one of three primary flight control surfaces found on aircraft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le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small hinged sections on the outboard portion of a w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movable surfaces that control movement about the longitudinal axis--called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ro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lerons can be used to generate a </a:t>
            </a:r>
            <a:r>
              <a:rPr b="0" lang="en-US" sz="2800" spc="-1" strike="noStrike" u="sng">
                <a:solidFill>
                  <a:srgbClr val="860086"/>
                </a:solidFill>
                <a:uFillTx/>
                <a:latin typeface="Arial"/>
                <a:hlinkClick r:id="rId2"/>
              </a:rPr>
              <a:t>rolling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n airc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ll motion of Aircraft by Aileron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0" name="Picture 4" descr="Aileron_roll"/>
          <p:cNvPicPr/>
          <p:nvPr/>
        </p:nvPicPr>
        <p:blipFill>
          <a:blip r:embed="rId1"/>
          <a:stretch/>
        </p:blipFill>
        <p:spPr>
          <a:xfrm>
            <a:off x="838080" y="826920"/>
            <a:ext cx="7315200" cy="5784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RUDDER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2" name="Picture 4" descr="250px-Stabilizer"/>
          <p:cNvPicPr/>
          <p:nvPr/>
        </p:nvPicPr>
        <p:blipFill>
          <a:blip r:embed="rId1"/>
          <a:stretch/>
        </p:blipFill>
        <p:spPr>
          <a:xfrm>
            <a:off x="5626080" y="1400040"/>
            <a:ext cx="3517920" cy="40100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304920" y="1523880"/>
            <a:ext cx="525780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trailing edge of the vertical stabilizer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d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ntrol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left/right sliding movements of the aircraf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real aircraft, this is controlled by the foot ped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pilot pushes the left pedal, the rudder deflects left. Pushing the right pedal causes the rudder to deflect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Left/Right(YAW)  Motion by Rudder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5" name="Picture 4" descr="Ayaw"/>
          <p:cNvPicPr/>
          <p:nvPr/>
        </p:nvPicPr>
        <p:blipFill>
          <a:blip r:embed="rId1"/>
          <a:stretch/>
        </p:blipFill>
        <p:spPr>
          <a:xfrm>
            <a:off x="990720" y="793800"/>
            <a:ext cx="7010280" cy="560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Elevator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7" name="Picture 4" descr="250px-Stabilizer"/>
          <p:cNvPicPr/>
          <p:nvPr/>
        </p:nvPicPr>
        <p:blipFill>
          <a:blip r:embed="rId1"/>
          <a:stretch/>
        </p:blipFill>
        <p:spPr>
          <a:xfrm>
            <a:off x="5535720" y="1523880"/>
            <a:ext cx="360828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228600" y="1447920"/>
            <a:ext cx="464832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vator is on the tail of the aircraft, moving the elevator causes the nose of the aircraft to go up or down, allowing the aircraft to climb or descent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vators control the up/down motion of aircraft that is called as pitch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pilot pulls the stick backward, the elevators go up. Pushing the stick forward causes the elevators to go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20:26:26Z</dcterms:created>
  <dc:creator>Mechanical Engineering Project</dc:creator>
  <dc:description/>
  <dc:language>en-US</dc:language>
  <cp:lastModifiedBy>Brigade</cp:lastModifiedBy>
  <cp:lastPrinted>2000-02-21T20:05:39Z</cp:lastPrinted>
  <dcterms:modified xsi:type="dcterms:W3CDTF">2011-08-16T06:20:02Z</dcterms:modified>
  <cp:revision>1</cp:revision>
  <dc:subject/>
  <dc:title>Mechanical Engineering Project</dc:title>
</cp:coreProperties>
</file>